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FC3-DB8B-4D39-B0F9-572687BE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E8A-7F28-430F-916C-D36C8174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7125-354D-46F5-BD91-6B2624AE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41E56-4ADB-449D-B380-2D4B8162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A811F-7B8A-46BD-BCC6-CE33C644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9157A-D2C7-4D17-80E6-EE40546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38C3D-C09A-4E92-9D85-2C50026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BB592-EB4B-4ABA-BED8-72E92CFC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0208-5FFC-4F3C-B957-8A5B0F86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B469C-24E0-4F13-80D6-B8683772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E4C52-0951-4418-BFAA-A0DC3E91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5F3A6-40E2-4B03-8459-B536C3BD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023-8FBC-4704-B5FD-256DD033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7327-09D9-4F49-95D2-7A609046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37766-6B13-4CC1-9D96-813E0A62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2090E-64F6-4E4D-AA10-EFE72104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B0F58-91F6-42D2-A8FD-A2000DE8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10584-D65C-4956-B4F0-037390C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C2DB0-A38F-4175-9E21-5CFC6407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09472-188B-445E-B05C-50CF8A40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D6629-10C1-4F39-B609-1394A85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B7BB2-450D-4896-8542-1A81993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2F053-ED5A-4CAD-BC46-4879756F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3AD-4BA3-493C-AF98-9D8BBE84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5A60F-41F3-4847-98EB-B8B55E86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486ED-2913-476B-B5DD-1400E017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8BF97-DD95-40BB-9927-56FBA157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4B236-362E-48E5-B030-94BEED7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5B5E5-A1F0-4E98-ADB4-C64B58C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FBA2-FF0A-4E54-BD09-7C16F0F9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B987-8F4D-400E-8D36-ABDBED4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5803C-6758-460F-AD1E-2E38143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86F3A-6A1B-44A7-9D16-F7E44EA2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C701-7421-4D5F-B485-9DB93A4B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96AD-4A5C-4151-BAAA-AC5E4441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5ADA6-ED12-4E0F-855B-F413B9E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CA796-721C-4FEA-96D0-9445DC3C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AE5F3-6461-4279-9542-DF66CEC0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4B76F-4778-4780-987F-7A0100D8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F27C8-D6F9-4D38-A5FC-27C1BDE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9BC95-A90D-4310-9507-00F0248F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015B3-3199-4E69-A1D6-006C24BA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8B255-2809-48FA-96D6-629CE40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07955-C6E5-4628-A530-98532F9B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0E1DA-3C9E-409E-9D31-E2789B9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B5E9-FF0B-4B27-B857-A0DAE83A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FC329-8545-4255-98E0-3360F5E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8F406-14E3-4968-835E-CD0B08C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4CA7A-BC02-48AD-BE21-9ED0051F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42643-3EB9-4F80-A958-B13EFF2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604A9-AD85-46D2-B08D-E0E7147A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BBEAF-4DA4-4B2B-B149-295A0709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E53E4A-8F3B-4113-BF51-D57E34D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E3B44-E47A-478E-8C19-9E70FDB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57D4B-1986-477F-9F3A-A1434BAD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B3032-9090-41AF-96E2-2ABA3BD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A62A-B535-4911-8875-CA74C50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D23F1-2D91-4BC5-9A5D-1AA23BF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6015B-4573-45DA-83D6-9D18A09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C0181-05E9-447D-8D32-CFE9155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A7A46-5335-480B-93EC-292DA70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91189-C5EF-4B34-8161-E428468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C2637-CA81-480C-84EB-F78C9CFD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93860-8753-48E2-8AEA-53351E73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460D1-B5FD-428E-BB47-0D0F2611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4FEA83-91F7-4A7F-8673-5F1E946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2CC94-6A08-42BD-81CD-006D5438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73B-16A8-4C18-BE71-03863E5F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4DC61-7B7F-411F-B777-026CC63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F4CE5-A08D-4E7F-8B13-D328A52C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CC4C3-17AF-46CE-9653-4F6CF40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C54A3-E151-4F71-9630-51C0FEB9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CBA85-E51E-4C3C-87D6-B31EC3D2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BAB5C-6FDF-43FB-A22C-FA730F0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AFDDA-23E7-48D2-8F99-56116CE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93936-8654-47BA-98C4-A518E216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774D0-4E43-4E42-8451-69F862A5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7CC2D-0B70-44AC-8673-2DA27709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4AF0-5387-4F99-BE39-D3836798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A466A-5AC9-47D9-BDD5-6DC11AF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5E1A7-EDD6-458B-9071-F5DB445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AAFEC-2842-4B54-9F4C-582232E1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D3C1E-B524-47D1-8DFF-44075EE9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C9DC9-0CC7-4DB2-A290-0DF3E534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BD93A-C8EB-45FE-BF9B-28AF62B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C0F64-FBFA-45E8-AC97-283C31F1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72BCC-7703-4D25-BE61-D065D5EF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DF859-BB99-4AC4-83FC-FCB970DC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8B9E3-CF3C-4EBC-8A4A-71AA8203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31C2-7E78-4B61-83DA-DB5558D6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03EB1-72DC-43B6-B390-1E9836E0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10BBC-C9B7-473F-B425-C5CF6226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90D45-6DE1-433C-B5E5-5B3955B6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F5CCD-DC54-451E-B029-694E10BC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65453-531A-480D-A816-A26C159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ED9EA-DF70-41FA-BB97-0511F0AA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6BAE6-3A14-45F3-AD1E-DE60BD5B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C7069-9374-45DF-BDFD-D4AE084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36E50-7393-48CC-AD52-D2BCCCA4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CEA30-3FEF-4D0C-8331-688A21C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082-AF06-4311-8E27-7EDD686B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3BABB-6564-4B12-B877-37331E02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3BE3F-3E0F-4A3A-AC15-A99AFF1B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EC8E5-CC40-411F-BA30-4DD02350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56129-D1AF-4CC1-A5EE-EDAE40F3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4064BE-358B-4927-9732-D336A1A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0593F-A77E-430D-B1BC-2A1CD8A8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2924D-7392-447B-A782-B7175DC4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CAFDC-BA9A-456E-AE96-EAB9D503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65AD7E-A47F-4C95-9559-894F737E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36FBE-368F-4971-87EC-9EB5EDC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A5D-3329-4504-BC44-D94B57AA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D03-E179-4264-99A4-4820125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1B2EA8-DF02-4DF7-9EED-985AA679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122A2-6DB1-4741-BD9C-84D6F7B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FD434-040B-430B-8CF1-8BEAAA4C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6E8A9-1939-47CA-8AA1-DB57E384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965CF-9EB9-4BA1-AFB9-309F802E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97FFA-0309-4BB4-B821-F4F3BDD6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9AC746-C2A4-415E-8214-B924DD2E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F4BF6-DB47-4675-9BE9-874955D3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C76B5-812E-4D0E-B7F7-B6DEB7D4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852DF-CBF7-4992-93F3-E4F10840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B785-8982-4E98-855B-6E87E97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16B82-0828-4F36-B6F5-06431738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3DFAB-E537-4F70-96C2-4B9502E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C80FC-E915-4475-8691-EC68952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168EA-5123-4D25-8344-109FFEE3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F6CCB-BD8F-44F4-89A1-A8D203EA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65CA6-D42C-4A57-88FD-05C9B38C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3A1FE-1A40-49B8-AE85-5CD6A52A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9DE55-C8FF-48A6-8C9E-981F76CA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40EB7-8235-4091-B5E8-C3A738C7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1089A7-4CCE-490D-A0BD-9654CF9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0BDC-CFEE-4FEC-926C-5D775B5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EF5E7-BC3D-4CC8-900C-0A9056A7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AB46E-FBF4-40BA-A885-175B9699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FEE30-F31A-4446-BB0A-36BD008E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55B82-3BA3-4A21-94AF-B68AC2F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626A0-64E6-42AA-AA5A-AFEDF13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8495B-2C44-4020-B351-B14DFE8E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E4262-B6BF-4DB0-8034-D5C6AAB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2FBFD-2028-4D7E-8E45-C2DDA39D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1F436B-0347-43AB-912A-77E5C8FB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90C6F-8F34-439D-83CE-B7350FF4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6D65-776A-4C9E-A834-BF26454A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AB96A-9AF6-4497-83CB-E0E3B644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38D761-C2A8-44EB-88D9-3B10233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BBE2F-A817-4CD2-8AB0-8080DF53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4E7F03-4178-47A4-94BB-D177C75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CE9E5-8F66-4F2C-A2AE-24CAF8B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ED963-8887-4057-BB5A-5581A99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50896-AB7E-4511-A696-831F495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1ABD6-6931-4205-86F4-061B1DC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87D21-A042-47C4-8825-D89AF76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DE4F4A-EC9E-4439-B931-65E5C822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B8AC-8849-474C-9A61-91ACFED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DD342-D4FB-4020-A442-95693838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09770-7E33-4122-9F47-2B9B8901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519633-9378-4C9C-AAC9-71145BC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C01EB3-0B49-4364-9B54-793DAB55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0EEEE6-CCDC-4F84-B320-BEA9161A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D209F-7CC0-4C32-A0B4-6EC25415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EC4E0A-352C-4485-8AB2-FB825B59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95547C-4F3F-48B0-BF25-EF10032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3E4C8-613D-4D30-9D0C-F61A890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915212-359F-47CE-8DE8-2BF989E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D9BB5-142F-42F0-B877-460984FA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2EB14-2559-4592-8D87-AFA8947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8F1B04-8B06-4BF4-B0BC-DC0F12F5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53A78-5AED-4591-8A89-5FDBFDDE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1FE68A-8DB0-4F5B-9AFF-068E7CDB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0CE89-B8AF-4C13-B984-F1A64922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E76C4-59A8-42B5-9014-09AC663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C241D-965B-4A9A-8DB1-FC445A9E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9650C-38C5-400D-9F6D-25DA237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E4E164-BF27-4BAB-8A3F-60CA8EB5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DAAE2-D5EE-4E11-9D43-32B088A0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DE03-743D-437F-A1D5-9D57E9FC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2BFC2-9B10-487F-A61F-4DC102A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7A6071-72C7-4A5C-89D5-62322288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D7206-72A0-418C-983B-1D1544A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319815-0949-4BAB-B18B-56529E56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110E9A-CABA-409A-8AA4-B82BDE2F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58B7F-B63D-496A-B1E8-50339CB2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7C895B-3D69-4B2D-BC54-D4C14A0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D5D125-8477-443C-924E-C41323A5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4484C3-9DA7-432C-9806-5C84363B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EC6AF-D8DA-4C0D-A877-21FC49B8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76D1-8EAA-49E9-AA9E-5A5C558C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6B63F8-D884-4339-82DA-AB5D791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C9A6C-F256-4369-82B1-3F41860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F9FE14-EF35-4730-AF37-498E1D6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353B66-E1E1-416F-BD90-F2558F0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FB3477-89A5-49E7-98A4-B077501C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6DDA1-E5B0-4C03-8D3E-81DD8F21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3F5594-BAD9-4B0F-BF00-67D17E02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7E758-3B18-4429-81D5-61D4C11E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203BF-E598-4031-8256-E6038870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505ED0-23FA-4A72-B235-B0D14D2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C5F3-EF6D-4DF5-88FB-C9F98316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95379F-08C7-4AF0-A0EA-43E63940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C93CA4-28BE-4358-BB1C-F006958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847EA0-27E5-4EF3-B55C-9AEC9B6E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8C4818-206C-48DE-88C1-1E923295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3BE2F7-1F32-421D-9B1C-A9645A82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03EA4-CEF2-4127-A49E-01B15A1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D447A7-E938-4DE7-AB62-89294F3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872CA0-AE53-4D4B-92B4-4460C0A4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FFC2D-40DF-4571-A14D-AFC533FB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16AC38-FFA5-40B4-B041-A84FED8E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85A3-6537-4F43-B8F4-6EF7B5ED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0E31A-04F3-46DF-9F64-2341EBF3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FED641-B0B3-4E41-AF36-F03F755B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C4DA3-5B07-4792-B0D5-32C2CC50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21B529-4709-45BE-831B-0DCD04B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558ABE-9B95-4C1C-B490-0297C676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2CC0A0-CD77-4DC4-BFE0-B369980D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F85C75-DEEB-45B4-A00A-32B631F5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FD2FD4-857C-4338-90F3-D7460553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ECAD38-A083-4EFF-B40A-BD56277B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212E97-EB76-4176-8907-6D763323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BC3-9DC5-46C2-983E-904ADCF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77B8-F6F2-42D0-AB40-AD7B75E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2ECA0C-3B57-4F3C-A8DA-E0AF204B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EAB485-FB28-466A-9758-963667BB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0DC98B-661D-498F-99E4-873ECC8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4838EF-94F6-4B0B-AAF3-E73FDDC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FBF236-306B-4E16-9C7A-4618955E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983512-1629-4045-A3A2-0681162B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B9317D-81B6-42EF-94A7-535D367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D739F2-C1D5-452A-BF23-1C2C28EF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18F39A-17E3-4ED7-A07B-9B9C5B8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4E4352-89F2-4A03-A197-5DFCFFD8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8B66-EA3D-4939-8D8F-93DDBA5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7AA7F0-C761-4F89-962F-0D88A40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E3292C-8CB4-445D-A644-7370EC3C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27DD0A-6D39-4F7A-93E4-8CBAE3E1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F9C867-03C8-4CFC-81EB-112B9911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C17EFA-716D-455E-81DF-562BD01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DDB3AC-6900-46D8-9D34-0F7F4BF3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59E9DB-52A4-4232-AB8A-9942819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9CE30E-46B2-4A3E-83DF-16A2131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E0C715-A847-4EFC-A988-B9F9D1B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5159F4-EAC7-441E-9970-8BC1BBC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E393-9C32-412F-AEA7-9B923FAD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99184-36A6-4C23-B2AB-76EEF12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BE9BB5-B9C5-4E96-869A-1E4D6CC4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BE8308-D214-40B4-A2E9-25238AD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65D349-5779-4A88-8D3E-9BD1814B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297938-7A02-45BA-95FD-062A5BA7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5FE5E-5BFC-4507-B35D-36DEC23F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946249-9EA2-4FCE-9483-CF9E865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C42D53-7D72-49B5-8CA4-6C55CD6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DE130D-CD92-45C6-B518-57CAE10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0C4C68-E0A9-42C4-9CF8-C65B85EE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81D6-E728-40CF-A47A-65959AFE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4AA48F-1FA5-40ED-9D41-ABE5293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61C963-F916-4C9A-A1EA-5BC5E4B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CB457A-DE4F-4BAC-AF44-1FD96A5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29378E-CBC6-4946-9F5E-DBE5B4E9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2F61CC-D7F0-4AAE-B545-0FB6F4CF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35C853-A13B-4A3C-8FD3-C39E07F8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7BEF3D-3593-45CA-AE52-3C85A74D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933C10-3A29-4333-8F3E-9890E34C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82A7D1-BB1E-4FA9-9FA7-10D612B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706229-814F-4901-BAB5-DE79440C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53FD-88AF-4176-9D5B-5672FB2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688CF4-37DB-4B9F-823A-275C7107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C3D698-B375-4D51-92B7-0C13FEDF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A71FA5-4EC9-4621-B848-E7F3C6F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270833-F16C-46FC-A396-39432FB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893BC5-B998-4DE5-91F9-3A6E8AF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9E4FAE-F36F-4757-91E1-5BE619EA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5834BE-5745-4926-9E4A-F74B9F0B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F1A172-8679-46D0-B1A4-F67E46C2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598669-E99D-4CFD-86DF-7AB4E33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B2E301-7941-4FAD-989D-4CE33ED0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A8E1F-DBBF-4089-9F71-DB4B6C2E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0B9F83-5D14-42B8-A3CD-F956666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DD6888-B17D-41EF-B2B3-60075A41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094F0E-87FA-4481-A1FA-879C728F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1EC43F-CD75-44E9-BECA-E4B55ED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20E3FC-0409-4131-A351-5F120CC3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DBA292-7011-4C71-8B7D-7AA161F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974A09-FE8D-45EB-8F59-631139C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F244F8-4CEF-4DA5-9F3F-092D52B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C31279-83B3-4B30-8E10-21283134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7CD7B0-5DA6-4047-AA04-9E3E9C58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0EF9E-04EC-4D9E-ABB6-97D488C6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ACB055-1AD6-46B0-89A8-96480F3A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5694E2-BBFB-409B-94B1-FCC397A2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6C4662-D829-46AF-9521-9325076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5908C1-17D4-498E-A324-D6111A05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E1ADBD-AA47-4F9C-AD15-11A53BC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30154E-E1F9-4728-9D93-CD6EF115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6D30B6-04ED-451E-B0FA-45661A04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EF14D6-9F8B-4299-882D-0147C03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8D7A74-7212-4DB2-98B1-24438DE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18B670-9151-4C5E-901A-122964E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93D40-AB0B-49E1-8EC6-0A6219E2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45DB94-53D3-4D79-A901-F7A22E2C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E55969-B156-4ADA-9B51-D4158DE3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A5CF01-7C03-4DF3-985B-498D13CF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75A6D-9480-49D5-A6D2-66C50186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A5151-FE8D-479C-9BC4-A7982E2B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360-2F2B-4B76-B8F2-8706A7B7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EA20-2976-498F-8350-6DB0ACED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EB8E-ECC4-4558-B75A-6F7226D0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3251B-220C-43C9-81BC-7BDA932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A337-E912-4C3D-AD49-059E38D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DBA0-7D1F-4EC2-B6E3-CD942864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1BBC-65D0-40D4-AE1E-881C96DC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88D1-D453-462E-8C28-A8D91F45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B42DE-9719-4B42-934F-D94F51AB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3092-0117-4898-866A-5AC2D4BB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83F8-3B76-4B90-A6F4-038FA595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61A-B564-495E-871F-28AC57FB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E124-3BC6-4817-9C62-9185D141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401F-B8E1-420D-9232-2CCEC195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E721D-3ED3-4B2C-B72C-E7704EF3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8AD4-33C6-4F23-B0F1-8EFB6524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74167-2E3C-4459-9758-EE77811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0A4B8-655E-4EB1-AE28-E05C8F7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00ABB-7D62-4017-8E66-D116751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97BBE-16B4-4558-B6B3-8F2DEBE9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08561-7D3D-4C26-8866-CACA6373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3EC84-7C5E-412E-9C34-F575FC3E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5CA-984D-4E56-8860-B2C8567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3AECB-6C29-48B1-A797-7DB6D080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6650-8ABE-4014-B29F-45B0F587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A46A-9C74-45DC-8C37-787ABC3F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AF176-FF1B-4436-B4B1-17E49413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8F83-2962-4002-947A-9CA7A4F1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0C04-6F8E-4EF4-9C84-51D386F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6A6D-8293-44E8-9BD6-D13D4464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026A8-0FEE-44CE-A547-161824B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BD4E-B012-4E60-B196-0CE523F9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5EB2-60F0-47A3-827B-F26E30F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524-F45D-47B2-9E8E-2B73F28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25820-4451-462C-8550-797B7CF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1411-4F92-4358-9B5F-27D2198C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B4C7-A508-44E5-9533-66CB3BD0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D73E2-F4F2-4A3A-BDC5-296568E7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D3084-24FF-4C4B-A863-5C0F8A2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6DD5-9FB3-49E0-8FA9-D9AAE8B3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FFD2-AD9E-4C6A-BB15-08AC31B7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92B8D-ED08-4721-A0B0-A5CF0FE5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96C5-BD8A-48FF-99CA-16F4FBB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CC26-89B7-4563-8809-4E5F1FA2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292-DD2F-43A8-8B99-541B40F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89A67-BA0D-41C5-8B09-9A51EE1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84378-2B63-4031-BB4B-A694CC1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DFDD-EB6F-438B-9FC4-CCBA9E72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46E7A-3450-45E9-A453-2369A18F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65DBA-E440-4AF1-B6D3-F09A8CED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5E5F-9E29-4FE6-B924-EA0551B2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6C0A1-8209-45C3-9557-FDED8044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3252-2A48-43CB-A2D4-1D23837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DFA84-9919-462B-9306-6FBB78C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C1BFF-D4FC-4B70-9C67-2BA7DC52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91D-F3F7-4037-AEF8-9763513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026C0-EFF0-4AA5-BE22-7B59F80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A7C33-700C-4D0C-A700-52FEFB00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81AA-2481-4F1A-8926-B39F176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21EC-36F2-4F62-A11D-93B1A5E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B6506-91F0-4A9D-B400-0B8D8AD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CFB51-D128-4D45-9A6F-6096B6F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9C31E-9B79-4CD8-A700-0678021D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B62F3-7042-47A0-A850-B667B4D8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1E783-7B4C-457E-92AE-393579C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CF200-F471-429A-84B3-9CBBF09D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B0C-0BBD-45B1-B62B-3C3BBE3379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E233-4258-46E0-AA60-86C40E3902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1C52-CAA7-4C85-B2A2-01BAFC11A4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989D-A321-4420-9FFC-A7AD0FC2F7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293-9893-42E9-AF00-C733746E35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F87-910D-4485-9356-CC9707C90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2595-2708-47C0-BC31-F045FECB14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6CA5-9739-4A2C-B3C6-0F6AA0316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1679-163E-4F1E-8EAA-25D82F40F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C4B-4EFE-4BE8-AC34-064D461CF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2D64-8657-4A53-9602-79095ABB7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5884-EEA3-4C62-850E-0A4723493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B4A-940B-46F5-B71B-A82071CE8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6F19-9DB9-4197-AC7B-BA73CDC74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888C-EA3B-4325-BBD6-C714838CCF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A752-E6A9-4661-824F-222AB600C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6BE-258E-4358-BA96-952417ACB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AD4A-F0C5-44E6-91B9-C2E83EFF3E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CB2E-DA1D-4848-810B-B8C2B88121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667E-A3F3-47E5-A4DF-F63D7B0E9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07B-3793-4F81-9B5C-6C2BBB20C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257-EBCD-4403-93E2-A64B23FDC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AA3-81DC-4D8B-B6DC-1A9360B93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D4C-1649-4530-9483-A3212E11D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612-0390-4E27-854A-93243CFC5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5A3-484E-4187-8DD4-D089284C5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0D7-C042-4530-8E9B-3970626DB3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8967-FC19-438A-991B-80E1F7148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A86-F5B1-4541-A2B9-9C59DAC38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1F8B-05AF-464D-B965-0F7B4D1E7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FF0E-18E3-444F-88E6-5B799FA6D8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B0B-6E24-4731-A826-051066D75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2E7-9CC8-496D-AEFA-D0AB2FDF77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4066-F56B-488B-BE3D-E63280BBFF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0BF-32E3-470B-B346-69A23D919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D0D-0AEE-49DD-8210-464460545A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89D7-0C67-4A89-AB39-B1645277B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58A-3A6D-4171-9B32-7C3CC92CC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BCF-AA6D-420A-A01C-91C21AC35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603A-422E-4D3F-9065-6CF9D0816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4302-563C-46FC-93C9-631E1D5110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FD99-C0B3-4D36-BB5C-1E103828B4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FF9-1DDF-41C4-984D-ED40F5535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8280-BB7F-4C74-A15E-BD01182F53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72EF-AB95-4F84-9A4C-E65A86D26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B3B8-A38C-47F2-AA1F-D53545376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0328-1E63-444A-828D-91918C5D6C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63C-6701-45DB-BA46-102F0E7D3B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AF04-0736-483F-AC19-3537888C3D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BC89-019E-400E-AD46-451522809C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4095720" cy="71424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895320" y="3071880"/>
            <a:ext cx="7353360" cy="7142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3102120" y="4078440"/>
            <a:ext cx="277164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6737" descr=""/>
          <p:cNvPicPr/>
          <p:nvPr/>
        </p:nvPicPr>
        <p:blipFill>
          <a:blip r:embed="rId1"/>
          <a:stretch/>
        </p:blipFill>
        <p:spPr>
          <a:xfrm>
            <a:off x="561960" y="1285920"/>
            <a:ext cx="8020080" cy="42861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6738"/>
          <p:cNvSpPr/>
          <p:nvPr/>
        </p:nvSpPr>
        <p:spPr>
          <a:xfrm>
            <a:off x="6124680" y="2952720"/>
            <a:ext cx="857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6739"/>
          <p:cNvSpPr/>
          <p:nvPr/>
        </p:nvSpPr>
        <p:spPr>
          <a:xfrm>
            <a:off x="3112920" y="4043520"/>
            <a:ext cx="3610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16740"/>
          <p:cNvSpPr/>
          <p:nvPr/>
        </p:nvSpPr>
        <p:spPr>
          <a:xfrm>
            <a:off x="7083360" y="4610160"/>
            <a:ext cx="1247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571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10720" cy="45338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5714"/>
          <p:cNvSpPr/>
          <p:nvPr/>
        </p:nvSpPr>
        <p:spPr>
          <a:xfrm>
            <a:off x="6648480" y="1762200"/>
            <a:ext cx="1886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5715"/>
          <p:cNvSpPr/>
          <p:nvPr/>
        </p:nvSpPr>
        <p:spPr>
          <a:xfrm>
            <a:off x="1692360" y="2276640"/>
            <a:ext cx="1085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5716"/>
          <p:cNvSpPr/>
          <p:nvPr/>
        </p:nvSpPr>
        <p:spPr>
          <a:xfrm>
            <a:off x="6948360" y="2852640"/>
            <a:ext cx="1562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5717"/>
          <p:cNvSpPr/>
          <p:nvPr/>
        </p:nvSpPr>
        <p:spPr>
          <a:xfrm>
            <a:off x="1628640" y="3395520"/>
            <a:ext cx="409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5718"/>
          <p:cNvSpPr/>
          <p:nvPr/>
        </p:nvSpPr>
        <p:spPr>
          <a:xfrm>
            <a:off x="5187960" y="4529160"/>
            <a:ext cx="3295800" cy="54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5719"/>
          <p:cNvSpPr/>
          <p:nvPr/>
        </p:nvSpPr>
        <p:spPr>
          <a:xfrm>
            <a:off x="1609560" y="5248440"/>
            <a:ext cx="1229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4689" descr=""/>
          <p:cNvPicPr/>
          <p:nvPr/>
        </p:nvPicPr>
        <p:blipFill>
          <a:blip r:embed="rId1"/>
          <a:stretch/>
        </p:blipFill>
        <p:spPr>
          <a:xfrm>
            <a:off x="409680" y="752400"/>
            <a:ext cx="7943760" cy="876240"/>
          </a:xfrm>
          <a:prstGeom prst="rect">
            <a:avLst/>
          </a:prstGeom>
          <a:ln w="0">
            <a:noFill/>
          </a:ln>
        </p:spPr>
      </p:pic>
      <p:pic>
        <p:nvPicPr>
          <p:cNvPr id="1466" name="图片 114690" descr=""/>
          <p:cNvPicPr/>
          <p:nvPr/>
        </p:nvPicPr>
        <p:blipFill>
          <a:blip r:embed="rId2"/>
          <a:stretch/>
        </p:blipFill>
        <p:spPr>
          <a:xfrm>
            <a:off x="919080" y="1743120"/>
            <a:ext cx="4543560" cy="39996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114691" descr=""/>
          <p:cNvPicPr/>
          <p:nvPr/>
        </p:nvPicPr>
        <p:blipFill>
          <a:blip r:embed="rId3"/>
          <a:stretch/>
        </p:blipFill>
        <p:spPr>
          <a:xfrm>
            <a:off x="946080" y="2335320"/>
            <a:ext cx="7372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3665" descr=""/>
          <p:cNvPicPr/>
          <p:nvPr/>
        </p:nvPicPr>
        <p:blipFill>
          <a:blip r:embed="rId1"/>
          <a:stretch/>
        </p:blipFill>
        <p:spPr>
          <a:xfrm>
            <a:off x="843120" y="1643040"/>
            <a:ext cx="7457760" cy="35719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3666"/>
          <p:cNvSpPr/>
          <p:nvPr/>
        </p:nvSpPr>
        <p:spPr>
          <a:xfrm>
            <a:off x="7067520" y="1609560"/>
            <a:ext cx="1209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3667"/>
          <p:cNvSpPr/>
          <p:nvPr/>
        </p:nvSpPr>
        <p:spPr>
          <a:xfrm>
            <a:off x="1403280" y="2133720"/>
            <a:ext cx="2171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8"/>
          <p:cNvSpPr/>
          <p:nvPr/>
        </p:nvSpPr>
        <p:spPr>
          <a:xfrm>
            <a:off x="4932360" y="2684520"/>
            <a:ext cx="111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9"/>
          <p:cNvSpPr/>
          <p:nvPr/>
        </p:nvSpPr>
        <p:spPr>
          <a:xfrm>
            <a:off x="6372360" y="3213000"/>
            <a:ext cx="1895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70"/>
          <p:cNvSpPr/>
          <p:nvPr/>
        </p:nvSpPr>
        <p:spPr>
          <a:xfrm>
            <a:off x="1332000" y="3716280"/>
            <a:ext cx="3533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71"/>
          <p:cNvSpPr/>
          <p:nvPr/>
        </p:nvSpPr>
        <p:spPr>
          <a:xfrm>
            <a:off x="5565600" y="4230720"/>
            <a:ext cx="2524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72"/>
          <p:cNvSpPr/>
          <p:nvPr/>
        </p:nvSpPr>
        <p:spPr>
          <a:xfrm>
            <a:off x="1346040" y="4734000"/>
            <a:ext cx="2048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2641" descr=""/>
          <p:cNvPicPr/>
          <p:nvPr/>
        </p:nvPicPr>
        <p:blipFill>
          <a:blip r:embed="rId1"/>
          <a:stretch/>
        </p:blipFill>
        <p:spPr>
          <a:xfrm>
            <a:off x="585720" y="1390680"/>
            <a:ext cx="7972560" cy="40766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2642"/>
          <p:cNvSpPr/>
          <p:nvPr/>
        </p:nvSpPr>
        <p:spPr>
          <a:xfrm>
            <a:off x="6114960" y="24289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1617" descr=""/>
          <p:cNvPicPr/>
          <p:nvPr/>
        </p:nvPicPr>
        <p:blipFill>
          <a:blip r:embed="rId1"/>
          <a:stretch/>
        </p:blipFill>
        <p:spPr>
          <a:xfrm>
            <a:off x="885960" y="1905120"/>
            <a:ext cx="7372080" cy="304776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1618"/>
          <p:cNvSpPr/>
          <p:nvPr/>
        </p:nvSpPr>
        <p:spPr>
          <a:xfrm>
            <a:off x="2009880" y="2419200"/>
            <a:ext cx="5362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1619"/>
          <p:cNvSpPr/>
          <p:nvPr/>
        </p:nvSpPr>
        <p:spPr>
          <a:xfrm>
            <a:off x="1908000" y="2924280"/>
            <a:ext cx="5362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1620"/>
          <p:cNvSpPr/>
          <p:nvPr/>
        </p:nvSpPr>
        <p:spPr>
          <a:xfrm>
            <a:off x="1835280" y="3986280"/>
            <a:ext cx="5362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1621"/>
          <p:cNvSpPr/>
          <p:nvPr/>
        </p:nvSpPr>
        <p:spPr>
          <a:xfrm>
            <a:off x="1994040" y="4508640"/>
            <a:ext cx="600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0593" descr=""/>
          <p:cNvPicPr/>
          <p:nvPr/>
        </p:nvPicPr>
        <p:blipFill>
          <a:blip r:embed="rId1"/>
          <a:stretch/>
        </p:blipFill>
        <p:spPr>
          <a:xfrm>
            <a:off x="590400" y="1009800"/>
            <a:ext cx="7963200" cy="483840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10594"/>
          <p:cNvSpPr/>
          <p:nvPr/>
        </p:nvSpPr>
        <p:spPr>
          <a:xfrm>
            <a:off x="2610000" y="3610080"/>
            <a:ext cx="81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0595"/>
          <p:cNvSpPr/>
          <p:nvPr/>
        </p:nvSpPr>
        <p:spPr>
          <a:xfrm>
            <a:off x="4643280" y="3616200"/>
            <a:ext cx="576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0596"/>
          <p:cNvSpPr/>
          <p:nvPr/>
        </p:nvSpPr>
        <p:spPr>
          <a:xfrm>
            <a:off x="6516720" y="3602160"/>
            <a:ext cx="1781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0597"/>
          <p:cNvSpPr/>
          <p:nvPr/>
        </p:nvSpPr>
        <p:spPr>
          <a:xfrm>
            <a:off x="2719440" y="41241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10598"/>
          <p:cNvSpPr/>
          <p:nvPr/>
        </p:nvSpPr>
        <p:spPr>
          <a:xfrm>
            <a:off x="7740720" y="4653000"/>
            <a:ext cx="81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10599"/>
          <p:cNvSpPr/>
          <p:nvPr/>
        </p:nvSpPr>
        <p:spPr>
          <a:xfrm>
            <a:off x="1619280" y="5192640"/>
            <a:ext cx="300996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09569" descr=""/>
          <p:cNvPicPr/>
          <p:nvPr/>
        </p:nvPicPr>
        <p:blipFill>
          <a:blip r:embed="rId1"/>
          <a:stretch/>
        </p:blipFill>
        <p:spPr>
          <a:xfrm>
            <a:off x="423720" y="757080"/>
            <a:ext cx="7972560" cy="2810160"/>
          </a:xfrm>
          <a:prstGeom prst="rect">
            <a:avLst/>
          </a:prstGeom>
          <a:ln w="0">
            <a:noFill/>
          </a:ln>
        </p:spPr>
      </p:pic>
      <p:pic>
        <p:nvPicPr>
          <p:cNvPr id="1491" name="图片 109570" descr=""/>
          <p:cNvPicPr/>
          <p:nvPr/>
        </p:nvPicPr>
        <p:blipFill>
          <a:blip r:embed="rId2"/>
          <a:stretch/>
        </p:blipFill>
        <p:spPr>
          <a:xfrm>
            <a:off x="979560" y="3875040"/>
            <a:ext cx="7362720" cy="271476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09571"/>
          <p:cNvSpPr/>
          <p:nvPr/>
        </p:nvSpPr>
        <p:spPr>
          <a:xfrm>
            <a:off x="1657440" y="4381560"/>
            <a:ext cx="6724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2"/>
          <p:cNvSpPr/>
          <p:nvPr/>
        </p:nvSpPr>
        <p:spPr>
          <a:xfrm>
            <a:off x="1438200" y="489600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9573"/>
          <p:cNvSpPr/>
          <p:nvPr/>
        </p:nvSpPr>
        <p:spPr>
          <a:xfrm>
            <a:off x="4716360" y="4888080"/>
            <a:ext cx="9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9574"/>
          <p:cNvSpPr/>
          <p:nvPr/>
        </p:nvSpPr>
        <p:spPr>
          <a:xfrm>
            <a:off x="7524720" y="5411880"/>
            <a:ext cx="94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09575"/>
          <p:cNvSpPr/>
          <p:nvPr/>
        </p:nvSpPr>
        <p:spPr>
          <a:xfrm>
            <a:off x="1403280" y="5956200"/>
            <a:ext cx="571500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8545" descr=""/>
          <p:cNvPicPr/>
          <p:nvPr/>
        </p:nvPicPr>
        <p:blipFill>
          <a:blip r:embed="rId1"/>
          <a:stretch/>
        </p:blipFill>
        <p:spPr>
          <a:xfrm>
            <a:off x="890640" y="1771560"/>
            <a:ext cx="7362720" cy="331488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8546"/>
          <p:cNvSpPr/>
          <p:nvPr/>
        </p:nvSpPr>
        <p:spPr>
          <a:xfrm>
            <a:off x="1971720" y="3562200"/>
            <a:ext cx="2600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7"/>
          <p:cNvSpPr/>
          <p:nvPr/>
        </p:nvSpPr>
        <p:spPr>
          <a:xfrm>
            <a:off x="6585120" y="3548160"/>
            <a:ext cx="1666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8"/>
          <p:cNvSpPr/>
          <p:nvPr/>
        </p:nvSpPr>
        <p:spPr>
          <a:xfrm>
            <a:off x="1332000" y="4076640"/>
            <a:ext cx="3895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8549"/>
          <p:cNvSpPr/>
          <p:nvPr/>
        </p:nvSpPr>
        <p:spPr>
          <a:xfrm>
            <a:off x="3192480" y="4591080"/>
            <a:ext cx="1666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07521" descr=""/>
          <p:cNvPicPr/>
          <p:nvPr/>
        </p:nvPicPr>
        <p:blipFill>
          <a:blip r:embed="rId1"/>
          <a:stretch/>
        </p:blipFill>
        <p:spPr>
          <a:xfrm>
            <a:off x="585720" y="2185920"/>
            <a:ext cx="79725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76360" y="1566720"/>
            <a:ext cx="7991280" cy="37245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29640" y="266688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1"/>
          <p:cNvSpPr/>
          <p:nvPr/>
        </p:nvSpPr>
        <p:spPr>
          <a:xfrm>
            <a:off x="7812000" y="43657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6498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39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25953" descr=""/>
          <p:cNvPicPr/>
          <p:nvPr/>
        </p:nvPicPr>
        <p:blipFill>
          <a:blip r:embed="rId1"/>
          <a:stretch/>
        </p:blipFill>
        <p:spPr>
          <a:xfrm>
            <a:off x="900000" y="1657440"/>
            <a:ext cx="7344000" cy="354312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25954"/>
          <p:cNvSpPr/>
          <p:nvPr/>
        </p:nvSpPr>
        <p:spPr>
          <a:xfrm>
            <a:off x="3800520" y="160020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25955"/>
          <p:cNvSpPr/>
          <p:nvPr/>
        </p:nvSpPr>
        <p:spPr>
          <a:xfrm>
            <a:off x="1758960" y="269892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5956"/>
          <p:cNvSpPr/>
          <p:nvPr/>
        </p:nvSpPr>
        <p:spPr>
          <a:xfrm>
            <a:off x="6516720" y="3745080"/>
            <a:ext cx="84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126977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410600" cy="5286240"/>
          </a:xfrm>
          <a:prstGeom prst="rect">
            <a:avLst/>
          </a:prstGeom>
          <a:ln w="0">
            <a:noFill/>
          </a:ln>
        </p:spPr>
      </p:pic>
      <p:sp>
        <p:nvSpPr>
          <p:cNvPr id="1509" name="矩形 126978"/>
          <p:cNvSpPr/>
          <p:nvPr/>
        </p:nvSpPr>
        <p:spPr>
          <a:xfrm>
            <a:off x="1857240" y="13240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26979"/>
          <p:cNvSpPr/>
          <p:nvPr/>
        </p:nvSpPr>
        <p:spPr>
          <a:xfrm>
            <a:off x="5435640" y="1844640"/>
            <a:ext cx="2314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26980"/>
          <p:cNvSpPr/>
          <p:nvPr/>
        </p:nvSpPr>
        <p:spPr>
          <a:xfrm>
            <a:off x="3405240" y="3459240"/>
            <a:ext cx="420984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126981"/>
          <p:cNvSpPr/>
          <p:nvPr/>
        </p:nvSpPr>
        <p:spPr>
          <a:xfrm>
            <a:off x="5343480" y="51436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3906" descr=""/>
          <p:cNvPicPr/>
          <p:nvPr/>
        </p:nvPicPr>
        <p:blipFill>
          <a:blip r:embed="rId1"/>
          <a:stretch/>
        </p:blipFill>
        <p:spPr>
          <a:xfrm>
            <a:off x="571680" y="1557360"/>
            <a:ext cx="8001000" cy="374328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3907"/>
          <p:cNvSpPr/>
          <p:nvPr/>
        </p:nvSpPr>
        <p:spPr>
          <a:xfrm>
            <a:off x="7829640" y="266688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2881" descr=""/>
          <p:cNvPicPr/>
          <p:nvPr/>
        </p:nvPicPr>
        <p:blipFill>
          <a:blip r:embed="rId1"/>
          <a:stretch/>
        </p:blipFill>
        <p:spPr>
          <a:xfrm>
            <a:off x="495360" y="2138400"/>
            <a:ext cx="8153280" cy="258120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2882"/>
          <p:cNvSpPr/>
          <p:nvPr/>
        </p:nvSpPr>
        <p:spPr>
          <a:xfrm>
            <a:off x="7810560" y="2124000"/>
            <a:ext cx="409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1857" descr=""/>
          <p:cNvPicPr/>
          <p:nvPr/>
        </p:nvPicPr>
        <p:blipFill>
          <a:blip r:embed="rId1"/>
          <a:stretch/>
        </p:blipFill>
        <p:spPr>
          <a:xfrm>
            <a:off x="571680" y="1590840"/>
            <a:ext cx="8001000" cy="367632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1858"/>
          <p:cNvSpPr/>
          <p:nvPr/>
        </p:nvSpPr>
        <p:spPr>
          <a:xfrm>
            <a:off x="7772400" y="216216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530280" y="746280"/>
            <a:ext cx="8010360" cy="581004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753320" y="1247760"/>
            <a:ext cx="4096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0835"/>
          <p:cNvSpPr/>
          <p:nvPr/>
        </p:nvSpPr>
        <p:spPr>
          <a:xfrm>
            <a:off x="7740720" y="4005360"/>
            <a:ext cx="4096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19809" descr=""/>
          <p:cNvPicPr/>
          <p:nvPr/>
        </p:nvPicPr>
        <p:blipFill>
          <a:blip r:embed="rId1"/>
          <a:stretch/>
        </p:blipFill>
        <p:spPr>
          <a:xfrm>
            <a:off x="581040" y="1714680"/>
            <a:ext cx="7962840" cy="914400"/>
          </a:xfrm>
          <a:prstGeom prst="rect">
            <a:avLst/>
          </a:prstGeom>
          <a:ln w="0">
            <a:noFill/>
          </a:ln>
        </p:spPr>
      </p:pic>
      <p:pic>
        <p:nvPicPr>
          <p:cNvPr id="1448" name="图片 119810" descr=""/>
          <p:cNvPicPr/>
          <p:nvPr/>
        </p:nvPicPr>
        <p:blipFill>
          <a:blip r:embed="rId2"/>
          <a:stretch/>
        </p:blipFill>
        <p:spPr>
          <a:xfrm>
            <a:off x="1049400" y="2797200"/>
            <a:ext cx="4705200" cy="15048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9811"/>
          <p:cNvSpPr/>
          <p:nvPr/>
        </p:nvSpPr>
        <p:spPr>
          <a:xfrm>
            <a:off x="7839000" y="171468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8785" descr=""/>
          <p:cNvPicPr/>
          <p:nvPr/>
        </p:nvPicPr>
        <p:blipFill>
          <a:blip r:embed="rId1"/>
          <a:stretch/>
        </p:blipFill>
        <p:spPr>
          <a:xfrm>
            <a:off x="581040" y="1486080"/>
            <a:ext cx="7981920" cy="38862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8786"/>
          <p:cNvSpPr/>
          <p:nvPr/>
        </p:nvSpPr>
        <p:spPr>
          <a:xfrm>
            <a:off x="7858080" y="2028960"/>
            <a:ext cx="409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776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62840" cy="53532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7762"/>
          <p:cNvSpPr/>
          <p:nvPr/>
        </p:nvSpPr>
        <p:spPr>
          <a:xfrm>
            <a:off x="7743960" y="1400040"/>
            <a:ext cx="40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28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